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1B9-E9AC-4830-B242-14563E8C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48C-AD56-457F-A386-A4BC99A5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383-3978-4901-8927-00AF4E95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23E-B21E-4EF5-B2DA-83D514EB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7E0-ACA6-4FC4-9795-67D9F397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E89-D0FE-490C-95FE-B7E811D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20B-843D-4747-A981-F116F7DE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05D-3F26-4102-B750-4829568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584-6574-4ED1-A5F6-816832BB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899-4BC8-4797-BC9C-723D1973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B80-F50D-4BB8-8F80-7FEF9374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424-7604-40ED-A324-EEA5A50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52841-47D5-482F-B3A5-180CFFEB0017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AC5DC-5D30-4EFD-9D57-2969D39008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Testbed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sipfed.org/exper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SIP Semantic Web Products and Services ‘triples’ testb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898989"/>
                </a:solidFill>
                <a:latin typeface="Calibri"/>
              </a:rPr>
              <a:t>ESIP Products and Services and IT&amp; Interoperability Committees and the Semantic Web Cluster, Jan 4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.esipfed.org/index.php/Testbed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(#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6388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 qu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SWTB_semantic_query_instance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423720" y="1116000"/>
            <a:ext cx="1020276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 qu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SWTB_semantic_query_property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361800" y="1149480"/>
            <a:ext cx="1001700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bed – not a production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69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welcoming participants at al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 database is part of testbed, check it out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ipfed.org/exp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dd y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 PM and Thu AM – an initial tutorial directed toward semantic web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weight seman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ls to add/ query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y and W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420920"/>
            <a:ext cx="91440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ed PM Session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troduction – 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case – motivation and scope – 2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del – based on use case, start with domain model and proceed to ontology model and then show them how to engineer it (i.e. a piece of it) – 1 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ed PM Sess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del ctd – 2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stance generation and population (how to? Write turtle, use Protégé, …), triple store ingest, web form – demo – 1 h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ummary and evaluation – 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nd h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317240"/>
            <a:ext cx="91440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u AM Sessi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tro to these sessions – 1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pplication definition – decompose use case, review technology and dependencies, examine requirements for search and report, add/ correct instances, technology dependencies – 1 hr 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valuation –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u AM Sessi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pplication/query development – generate SPARQL, follow along, provide a web query form, cut paste query into a textbox and execute and get result, for visual or text traversal, web form in wiki and first class citizen values (URI) - 1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valuation –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tems that would lead into intermediate (next) tuto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 Raskin (P&amp;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hul Ramachandran (IT&amp;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er Fox (SW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 Lyn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k H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047600" y="5027760"/>
            <a:ext cx="6388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ESIP, it is difficult to k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is working on similar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is working with similar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could ferret out this information, we could improve knowledge sharing and even make conn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while, agency program managers sometimes need to know who is working on what data with wha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55480" y="652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Ly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simple ontology of Projects, People, Datasets and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e with ACCESS, MEaSUREs and similar project instance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e triples in ESIP Testbed triple s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55480" y="652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Ly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 Domai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ESIP_Project.png"/>
          <p:cNvPicPr/>
          <p:nvPr/>
        </p:nvPicPr>
        <p:blipFill>
          <a:blip r:embed="rId1"/>
          <a:stretch/>
        </p:blipFill>
        <p:spPr>
          <a:xfrm>
            <a:off x="457200" y="1881360"/>
            <a:ext cx="8229600" cy="3482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55480" y="652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Ly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Qu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projects are working with semantic web technolog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chnologies are being used in NASA’s ACCESS progr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any projects working with the same datas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datasets are being used in projects working with semantic web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55480" y="652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Ly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Products and Services (GMU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WTB_architecture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223920" y="1349280"/>
            <a:ext cx="100188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IT&amp;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SWTB_semantic_search_provenance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393840" y="1131840"/>
            <a:ext cx="104108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SemWeb 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SWTB_collaborative_development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482760" y="1325520"/>
            <a:ext cx="103204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SWTB_semantic_ontology_registration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393840" y="1131840"/>
            <a:ext cx="101426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51:09Z</dcterms:created>
  <dc:creator>Peter Fox</dc:creator>
  <dc:description/>
  <dc:language>en-US</dc:language>
  <cp:lastModifiedBy>Peter Fox</cp:lastModifiedBy>
  <dcterms:modified xsi:type="dcterms:W3CDTF">2011-01-04T12:49:31Z</dcterms:modified>
  <cp:revision>21</cp:revision>
  <dc:subject/>
  <dc:title>Slide 1</dc:title>
</cp:coreProperties>
</file>